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0EC-1E22-4725-B6E7-2D851F66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4F80-E761-45E1-9CE4-156175EB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B035-4931-4521-866E-A987B3A6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F96B-00B4-4D1B-B8E2-A786296B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3927-1792-4FFB-87EA-B7C4DD85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37B-3E1A-4D76-9A32-FAC7BE1F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B36-7FE8-428C-9C36-2EEC8B27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4E20-DA33-4042-B702-1ED38938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F89B-EC0B-46D5-8C2E-D26AF153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A652-F408-4AD3-8C68-733D686B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2038-23CF-4836-90D9-86D165C5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467E-9FE3-4298-8D32-185A7491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8A89-53F3-4831-BDD4-6E4BA91FC8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10800000">
            <a:off x="0" y="0"/>
            <a:ext cx="380880" cy="68580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cc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ir, We Would See Jesus”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 The Life of Christ -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10, Lesson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11:55 – 12:19; Mark 11:12-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129-1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E229-1A1F-4065-A2BA-50382DF5DCF7}" type="slidenum">
              <a:t>1</a:t>
            </a:fld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Life of Chris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ilean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 of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rrection and Exal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4572000"/>
            <a:ext cx="2362320" cy="5205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re he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648320" y="4876920"/>
            <a:ext cx="17524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9048-B819-417C-B8B6-8C83087B0870}" type="slidenum">
              <a:t>2</a:t>
            </a:fld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nflicts With The Jews</a:t>
            </a:r>
            <a:br>
              <a:rPr sz="4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ohn 11:55–57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ief priests and the Pharisees had given orders to let them know if Jesus is f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John 11:47-48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He is left alone, all men will believe on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omans will come and take away both our place and our 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pla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John 11:53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ut Him to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ewish Passover was n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3C87-E112-449D-AFC1-B864582E440C}" type="slidenum">
              <a:t>3</a:t>
            </a:fld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esus Visits Bethany</a:t>
            </a:r>
            <a:br>
              <a:rPr sz="4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ohn 12:1-11; Matt. 26:6-13; Mark 14:1-1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went to Bethany, the hometown of Lazarus and his sisters, Mary and Mart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as six days before the Passover (Saturday even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on, a former leper, had them for din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dinner, Mary anointed Jesus with very expensive 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 disciples obj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deed became a memorial to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AA5-83D3-4D86-8BBE-B8EAC200EF86}" type="slidenum">
              <a:t>4</a:t>
            </a:fld>
          </a:p>
        </p:txBody>
      </p:sp>
    </p:spTree>
  </p:cSld>
  <p:transition spd="med">
    <p:blinds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Triumphal Entry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rk 11:1-11; Matt. 21:1-17; Luke 19:29-44; John 12:11-1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first day of the week, Jesus rode into Jerusalem on a donkey (Zech. 9: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disciples got the donkey in Bethph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owd welcomed Him with “Hosanna” and the words of Psalm 118:2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harisees and chief priests were very up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sked Jesus to stop the celeb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ef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E7E7-19E3-4896-8F86-7FC6D133FF1A}" type="slidenum">
              <a:t>5</a:t>
            </a:fld>
          </a:p>
        </p:txBody>
      </p:sp>
    </p:spTree>
  </p:cSld>
  <p:transition spd="med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Jesus Weeps Over Jerusalem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uke 19:41-44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Jesus saw the city, He w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ophesied about the future of the 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never saw pe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enemies (the Romans) will surrou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e stone will be left upon anot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entered the temple, looked around, and l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eturned to Beth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C02-6E76-4D1C-96B1-686BF0A72C3F}" type="slidenum">
              <a:t>6</a:t>
            </a:fld>
          </a:p>
        </p:txBody>
      </p:sp>
    </p:spTree>
  </p:cSld>
  <p:transition spd="med">
    <p:blinds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arren Fig Tree Cursed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rk 11:12-14; Matt. 21:18-1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next day (Monday), Jesus and His disciples again went to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ng hungry, He came to a fig t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ee had leaves but no fruit - bar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eclared it would never bear fru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ee began to wi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25C-AA11-4321-BE1C-5BDCCC1BEE73}" type="slidenum">
              <a:t>7</a:t>
            </a:fld>
          </a:p>
        </p:txBody>
      </p:sp>
    </p:spTree>
  </p:cSld>
  <p:transition spd="med">
    <p:blinds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econd Cleansing of the Temple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rk 11:15-18; Matt. 21:12-13; Luke 19:45-48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on reaching Jerusalem, Jesus went to the te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merchants inside, H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t out the merchant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threw the tables,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not allow people to carry vessels through the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- He had cleansed the temple three years earl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478-9B58-4D43-B3C3-7AFD8FF2D2D3}" type="slidenum">
              <a:t>8</a:t>
            </a:fld>
          </a:p>
        </p:txBody>
      </p:sp>
    </p:spTree>
  </p:cSld>
  <p:transition spd="med">
    <p:blinds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3T20:53:10Z</dcterms:created>
  <dc:creator>Frank D Vines</dc:creator>
  <dc:description/>
  <dc:language>en-US</dc:language>
  <cp:lastModifiedBy>Frank D Vines</cp:lastModifiedBy>
  <dcterms:modified xsi:type="dcterms:W3CDTF">2006-08-04T15:24:22Z</dcterms:modified>
  <cp:revision>14</cp:revision>
  <dc:subject/>
  <dc:title>Slide 1</dc:title>
</cp:coreProperties>
</file>